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2177-4E57-4BCE-AF16-5446983F9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04E2-43C3-4229-A3B2-38F313E89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92DE-1FB4-4EDC-95D6-14DA91600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F0E8-5249-431D-93B9-388F492A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F37C-D718-4F27-B449-E04259878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99C1-33E3-4BCD-9526-A49F20585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F782-4204-41BD-A5C6-B5D1FA22B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0EA1-0B3D-4779-B97F-A026E18B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DFBB-BBE2-4956-97D3-536894B4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439D-BE2C-44FB-AC9D-4C7D8DC9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B43B-1D94-4AEF-B901-B9E85474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F658-C8A2-4F01-844D-96183E4F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C2B5-93AC-4A68-A9B4-42F75300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6DB7-7162-48DB-8A13-DF22DA37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2C83-6E48-43E3-BE4E-B767EB78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189C-E4D8-4B16-8348-20843105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72AF-F5B9-4F24-BBE3-3B133FBE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BA7D-918D-449A-9470-C025D4CD1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4768-E1E0-4F5F-971C-C14065998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6E38-D5EF-44D1-BFA2-D96AF0C7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B8B5-CB38-4359-A789-4576BF6D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E025-141A-4B2A-80D9-E8665A2D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25D2-A5BD-4D25-8262-51D926C1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C903-2823-4E96-A1CB-F24490FC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D517-8069-4591-9C50-29982DF8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5F34-24FA-4913-A19C-4C3B8286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90A9-12E0-4372-AF21-319A53EF5A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2418-AD29-4385-8BB7-A4EDC315C4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533520" y="1752480"/>
          <a:ext cx="8076960" cy="4530960"/>
        </p:xfrm>
        <a:graphic>
          <a:graphicData uri="http://schemas.openxmlformats.org/drawingml/2006/table">
            <a:tbl>
              <a:tblPr/>
              <a:tblGrid>
                <a:gridCol w="2692440"/>
                <a:gridCol w="269208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-a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vrea s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ă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am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învăţ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1f497d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0" name="Picture 60" descr="j0078625"/>
          <p:cNvPicPr/>
          <p:nvPr/>
        </p:nvPicPr>
        <p:blipFill>
          <a:blip r:embed="rId1"/>
          <a:stretch/>
        </p:blipFill>
        <p:spPr>
          <a:xfrm>
            <a:off x="914400" y="0"/>
            <a:ext cx="426960" cy="1295280"/>
          </a:xfrm>
          <a:prstGeom prst="rect">
            <a:avLst/>
          </a:prstGeom>
          <a:ln w="0">
            <a:noFill/>
          </a:ln>
        </p:spPr>
      </p:pic>
      <p:pic>
        <p:nvPicPr>
          <p:cNvPr id="91" name="Dreptunghi 5" descr=""/>
          <p:cNvPicPr/>
          <p:nvPr/>
        </p:nvPicPr>
        <p:blipFill>
          <a:blip r:embed="rId2"/>
          <a:stretch/>
        </p:blipFill>
        <p:spPr>
          <a:xfrm>
            <a:off x="1219320" y="291960"/>
            <a:ext cx="654660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laudia Cziprok</dc:creator>
  <dc:description/>
  <dc:language>en-US</dc:language>
  <cp:lastModifiedBy>user</cp:lastModifiedBy>
  <dcterms:modified xsi:type="dcterms:W3CDTF">2012-05-13T15:32:37Z</dcterms:modified>
  <cp:revision>17</cp:revision>
  <dc:subject>Life with Internet</dc:subject>
  <dc:title>Know-Wonder-Learn Diagr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